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44698"/>
        <c:axId val="46974374"/>
      </c:barChart>
      <c:catAx>
        <c:axId val="86844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74374"/>
        <c:crosses val="autoZero"/>
        <c:auto val="1"/>
        <c:lblAlgn val="ctr"/>
        <c:lblOffset val="100"/>
        <c:noMultiLvlLbl val="0"/>
      </c:catAx>
      <c:valAx>
        <c:axId val="46974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44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053-F0F7-460B-8733-40759B6D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B8D-93A6-465C-9A2B-6F0F9F94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E52-B65C-4BC1-AA70-0140B712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BFD-4264-43D9-A7E9-FB220017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05C-0394-436B-9102-8BCD7B4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C3B-ACC4-4A6D-AD7E-59DD589F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886-B413-4E5D-B4B7-BF36048E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E9B-E1BF-4C27-A361-E3643023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902-1740-464A-86AA-37EEAC9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2BA-DF41-4E1C-9C11-4080C4B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4BD-E1D4-4FC0-80E5-C22050B8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C71-2957-4354-86E4-3F023C8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B7697-6C39-4ECE-9EF8-030A167E3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