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59231"/>
        <c:axId val="17488003"/>
      </c:barChart>
      <c:catAx>
        <c:axId val="98659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88003"/>
        <c:crosses val="autoZero"/>
        <c:auto val="1"/>
        <c:lblAlgn val="ctr"/>
        <c:lblOffset val="100"/>
        <c:noMultiLvlLbl val="0"/>
      </c:catAx>
      <c:valAx>
        <c:axId val="17488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59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59C-5206-499D-A119-C08D4E1C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901-5DBD-42A6-B6C1-3ECF5E0A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109-01DF-4491-A2FE-A4757141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48D-437B-4703-8C39-9BB79E7C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30D-FB55-4E84-B491-7A7437E0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0DA-4DF9-4606-B5C9-EB3D0FE0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48DA-91BF-4951-BE12-003D9E3A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BCB-F535-46DF-847D-5BA5BA88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133-5007-4C63-960A-23F1E7E8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4ED-BBDD-4455-AA07-5788563E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E0C-85C9-4B09-B969-833A905A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FD2-62EC-4CC8-9CE4-9A1AC330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D0360-458F-4024-9853-7C8CB9A7DA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