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43281"/>
        <c:axId val="86043603"/>
      </c:barChart>
      <c:catAx>
        <c:axId val="88443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43603"/>
        <c:crosses val="autoZero"/>
        <c:auto val="1"/>
        <c:lblAlgn val="ctr"/>
        <c:lblOffset val="100"/>
        <c:noMultiLvlLbl val="0"/>
      </c:catAx>
      <c:valAx>
        <c:axId val="8604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3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30B-A054-4436-83FF-227DEBB9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A55-5E01-4AF4-8A90-FC85DD8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07-F450-482E-803F-3C612E03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163-166F-47DC-AFB1-0A08B448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9D9-DE91-4E1E-A34E-2B535A4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F22-4B1E-4D31-A985-C36AE2F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5D9-BF47-4AD0-9356-16B80E72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0AE-E44C-4DA3-A208-3AB4BC6D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F84-748B-4697-815B-98894CD6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143-9697-42EC-A4AF-AA0AD7E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5DB-CF6D-476B-A6C1-4EF60EB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AA2-F356-41D0-AB1C-CB53B4E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ED8E7-56D7-4CA1-BEC8-77B096411D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