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90288"/>
        <c:axId val="40958816"/>
      </c:barChart>
      <c:catAx>
        <c:axId val="49890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58816"/>
        <c:crosses val="autoZero"/>
        <c:auto val="1"/>
        <c:lblAlgn val="ctr"/>
        <c:lblOffset val="100"/>
        <c:noMultiLvlLbl val="0"/>
      </c:catAx>
      <c:valAx>
        <c:axId val="40958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90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ACB-4116-4E72-9A5B-1739A575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F82-C33B-450F-B969-CBA653D1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05E-CE4D-44CD-A781-B1EA4C0E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437-41EF-4455-8D8B-3E4A754B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32F-1546-456C-B3CB-D5642F50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D0D-FB5A-49AF-9FCE-A74C8226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10A-ABCC-487F-BDE7-F228AD4E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209-DD52-4C5C-B672-32EB6A9C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D19-1EF9-4D93-8719-2E53B4E4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98D-7CBE-402E-9A1F-7C5771E8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9F4-9FCC-4478-8296-0B1734B7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A78-70A4-43A3-9B28-968986AE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17069-7CA6-42B0-ADF2-2BEC97904E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