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139714"/>
        <c:axId val="13489003"/>
      </c:barChart>
      <c:catAx>
        <c:axId val="691397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89003"/>
        <c:crosses val="autoZero"/>
        <c:auto val="1"/>
        <c:lblAlgn val="ctr"/>
        <c:lblOffset val="100"/>
        <c:noMultiLvlLbl val="0"/>
      </c:catAx>
      <c:valAx>
        <c:axId val="134890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1397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FC25-0D13-4F45-8BFC-DF039774D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7E6F-63C3-45A9-8098-0547F8FE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4FF7-2E8E-4D8D-B561-A077DB169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0E25-2C54-4FAA-84D9-73950455D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8087-4175-4458-A43C-3ABFCDA4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0287-324C-41B6-99DF-FCF42FA2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20AF-4416-4F73-93BD-AFB3B094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6FC8-342D-418C-B10F-3AA4BE2C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C011-0990-4F11-8E9D-50F28F55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35DD-4797-4ACC-84FD-D873D408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37DA-F8DA-49F3-ADA4-03E76B2A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4F1A-226F-4D6B-82EE-08BFAC50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7BE8F-BC7D-4D2B-BDDE-F782F38710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