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40164"/>
        <c:axId val="49631263"/>
      </c:barChart>
      <c:catAx>
        <c:axId val="78340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31263"/>
        <c:crosses val="autoZero"/>
        <c:auto val="1"/>
        <c:lblAlgn val="ctr"/>
        <c:lblOffset val="100"/>
        <c:noMultiLvlLbl val="0"/>
      </c:catAx>
      <c:valAx>
        <c:axId val="49631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40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F5A-C911-42E6-91F0-E9EEFADB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59F-1A82-465F-8753-49743802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04F-DB5A-4E38-96A9-CEFDDF67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8E5-21F0-424C-BB21-7D69290C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250-CE3B-43E9-A383-486C126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D07-7A0E-4D09-9205-8F04AA5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8B3-2AFA-4695-8E35-443C08E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51A-E052-4923-AF9E-D4F09BF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60F-FF11-47BA-B03F-94A7EAE5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3B9-BD9D-4C2A-BFD7-1A3F9155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5DD-F9B3-416B-BF68-73430026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F71-557E-4FBC-9DA6-ADDB2B5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CF6A-42EE-414A-8890-2AC695121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