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01203"/>
        <c:axId val="95522749"/>
      </c:barChart>
      <c:catAx>
        <c:axId val="43201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22749"/>
        <c:crosses val="autoZero"/>
        <c:auto val="1"/>
        <c:lblAlgn val="ctr"/>
        <c:lblOffset val="100"/>
        <c:noMultiLvlLbl val="0"/>
      </c:catAx>
      <c:valAx>
        <c:axId val="95522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01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62A-E43F-4818-97A1-EE21A08C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8E6-50D6-41B5-905B-06306082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FC6-B196-4DF2-ADB7-7EC37466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685-3CC0-4F14-9695-3C06030A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E44-3A3B-4F77-89D3-B98314B8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566-4C76-4353-A0AF-88A91E9D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F41-5AAD-4BEB-B8E8-D13FF1BB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110-F3E7-4AF7-895D-ADDA5F48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F21-3727-4A8C-90A0-6BEA6CA2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7E4-8039-4403-9FE6-761F2163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103-BEC7-467F-9185-79270408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A22-2C66-49F0-B3C0-3ACA0F52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890A9-8B7C-467D-8236-C7A3868610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