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139C-977A-4B60-A750-9738BEA24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24D9-71F3-499E-BB65-230505B20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6CEB-286C-47DA-9239-7763BC984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94BC-56AE-40FA-BE55-778B22055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A122-20E2-48B1-8497-B828E3EDC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CC22-817C-4731-A0BC-52BAAA065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9DC9-80EC-426C-8FB3-02B222684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C25D-202E-4313-B93D-3FEE32EAB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632B-4500-4E2D-97A2-8F0C546CF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68AE-5C10-4EA0-B151-0FAEB3229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C29E-970C-4F46-B5D0-9BE3A125F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CBC1-B8B3-4819-A2F5-C125609C3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305DAF-E8E6-4E58-A3E4-C0770D3C75AB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his is a PPT docu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orenzo Sanchez</dc:creator>
  <dc:description/>
  <dc:language>en-US</dc:language>
  <cp:lastModifiedBy/>
  <cp:revision>0</cp:revision>
  <dc:subject/>
  <dc:title/>
</cp:coreProperties>
</file>