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FDCD-32F6-43F7-A3FD-CD81E6BB0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52B3-5190-4FA4-8867-7A1AD1A49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5886-4ED6-44F2-8D5E-E2BC98126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1E91-30F4-47B9-87B3-AC750F5BE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50FC-CB6C-4CF0-8438-D29DA7B79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9F34-186E-45FE-9F7C-EA71572BD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87E7-90D3-486D-BD8E-73C899224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807E-6569-4663-9E1E-1E753F32F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323F-F6D4-4698-92EA-A987F2AAD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60D4-AC13-4263-B7A2-BF8361E46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DA8F-EC9C-4B03-96C1-FEEB4CB37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E99A-C67D-473D-959F-C3A868033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792A4B-C65C-4024-AEEF-B1A807D6FAFB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his is a PPT docu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orenzo Sanchez</dc:creator>
  <dc:description/>
  <dc:language>en-US</dc:language>
  <cp:lastModifiedBy/>
  <cp:revision>0</cp:revision>
  <dc:subject/>
  <dc:title/>
</cp:coreProperties>
</file>