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4046-D7CC-4A30-9DE5-8FB19D4BC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F266-7936-480F-8772-6B8003456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67D4-3973-45FC-B8A0-0C6B013C7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52FA-7407-49C2-A171-672019A0A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C713-B8A7-4A61-BD5F-238BDE4FC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5E84-06B2-4EAB-9F82-E46EFB0D4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C34A-FEE9-4EFB-89A7-A44E51F83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CAAF-04FC-4105-A61A-3886BE9CF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5BEB-F707-42B3-BA4A-7DE90B897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F30D-8EE4-40FD-AE72-24F5C36D4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9D7D-E420-4871-91E4-76B681275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CB0E-7A6C-4825-AE53-A9080B5A1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8A967C-98C8-48E9-9157-09E27A599DDA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his is a PPT docu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orenzo Sanchez</dc:creator>
  <dc:description/>
  <dc:language>en-US</dc:language>
  <cp:lastModifiedBy/>
  <cp:revision>0</cp:revision>
  <dc:subject/>
  <dc:title/>
</cp:coreProperties>
</file>