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6A16-9FB7-4514-8C4B-B85ADA6E0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4059-14EF-4BA2-9D28-701B9B403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F0C5-506D-45B8-A5FD-0EC752146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3A54-70F5-4223-BB0E-AEACE19FD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2995-01D3-41C8-9A90-AF09346C5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6C4B-5CDC-4C82-98F5-86D884C49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EC5C-AC47-4946-B0DF-04A1FE4BC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33A8-4E36-4A00-808F-884C4D44D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DCDF-A69D-44AC-99F5-F0C2F538B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D53D-894F-406C-BD67-BC0E10B7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B70B-54BF-4035-9B96-0BFB4546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0EAA-2291-4F5A-A699-8AA40243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36832F-2DDA-4404-9483-7FE6B769DFD1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his is a PPT doc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orenzo Sanchez</dc:creator>
  <dc:description/>
  <dc:language>en-US</dc:language>
  <cp:lastModifiedBy/>
  <cp:revision>0</cp:revision>
  <dc:subject/>
  <dc:title/>
</cp:coreProperties>
</file>