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589F3-11C5-4688-A407-935AC8513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F443A-8B07-4FD9-9860-2A0F4C798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7088E-935E-42D7-91A6-2B5470A6D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2C7B9-D785-43CF-9EA1-62D2D348A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1F892-7B27-4AE0-A4DD-D547EEE32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FB3B0-FEFC-4A18-A468-3F4980862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28818-18B1-4587-AB78-10A98779A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B779A-374E-490A-8141-6E00CFC86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BDBA7-9D59-46EE-81CE-BD9946C29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5E8A2-F644-47D4-B7D2-4E304A620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B74ED-371A-4C86-911D-1FBE16E37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CC72D-8676-420B-B684-7FBC12156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4703FB0-02FF-4DA4-9AEB-82AB12F7999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26T13:41:16Z</dcterms:created>
  <dc:creator>m l</dc:creator>
  <dc:description/>
  <dc:language>en-US</dc:language>
  <cp:lastModifiedBy>m l</cp:lastModifiedBy>
  <dcterms:modified xsi:type="dcterms:W3CDTF">2013-11-26T13:41:51Z</dcterms:modified>
  <cp:revision>1</cp:revision>
  <dc:subject/>
  <dc:title>title</dc:title>
</cp:coreProperties>
</file>