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8A9A-3FD5-4457-8764-1F6BD5A96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7E04-AA7D-4D23-9F13-98E633A88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5CB4-5CBA-42B4-8848-2D374AE51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636A-BBCF-4BE9-ABDC-FFAAAC43B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50C2-24F8-4456-89C4-D6560181E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F709-78A7-44C4-AFB9-D541DCA58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58EB-DDDA-4D6F-9953-52D991021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A85D-442D-4146-9F7C-B1FE4DA97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2BE7-30D2-4DAC-AE81-39FA2735D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78F6-06AA-4DEE-95EA-2596BE7D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8637-C19F-4C7C-8AB3-FCBDA0DA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FBFF-2278-4885-B378-ED65311D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52AB7E-B2C0-4239-B8FC-56B54E614D77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his is a PPT doc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orenzo Sanchez</dc:creator>
  <dc:description/>
  <dc:language>en-US</dc:language>
  <cp:lastModifiedBy/>
  <cp:revision>0</cp:revision>
  <dc:subject/>
  <dc:title/>
</cp:coreProperties>
</file>